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719-CAE2-482F-885E-5981FC67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6AC-0F4A-482B-8494-720902ED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CF6-A851-4D8C-A805-A97B225D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0A7-E5E2-4653-86F0-F29AB4E3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193C-1D8C-4E51-A67A-2FEA127D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F9F8-272C-4B43-966F-D2556216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F3E6-1DB1-4E66-B96F-A2DC8568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50F3-F014-49FD-8573-A7A63B28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EE8E-8BC2-4CF5-B71D-4F2F31D5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58F3-CF81-493B-A478-5DA87ECF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1D73-3545-4049-86FB-0AC02104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6E2-AB5A-40C7-A886-47DFF1FF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58E4-F3DB-4EEF-9CAC-0DC048E1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F457-3A87-43ED-B18B-F4C9FEB5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710B-4E98-4573-9406-9A1ADCBB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6279-5069-493F-98C4-9510E38E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DE54-673C-4F8C-BCF7-1C59AB7D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DC3-7BB6-4B24-9752-F825B92F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943-D18C-4378-8254-3E88AC08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FC0-63F2-4778-B4EA-FB82CFFB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507-CBD2-4949-9151-F08F0547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5E7-80E9-4F42-9A72-F1012CF2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8E4-4D61-4A53-A03C-0FD4D18E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444-8EE5-45D0-A81C-39181E05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300C-7BEE-4713-BD2D-6F95DC68E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2440" cy="474480"/>
              <a:chOff x="290520" y="2546280"/>
              <a:chExt cx="712440" cy="47448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84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4280" y="254628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9800" cy="474480"/>
              <a:chOff x="414360" y="2968560"/>
              <a:chExt cx="739800" cy="47448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264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CB11-652D-4A59-936F-626C9C95029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360" y="4005360"/>
            <a:ext cx="764856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                </a:t>
            </a:r>
            <a:r>
              <a:rPr b="0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楼程富</a:t>
            </a:r>
            <a:br>
              <a:rPr sz="3600"/>
            </a:b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      </a:t>
            </a:r>
            <a:r>
              <a:rPr b="0" lang="en-US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2015</a:t>
            </a:r>
            <a:r>
              <a:rPr b="0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</a:t>
            </a:r>
            <a:r>
              <a:rPr b="0" lang="en-US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月</a:t>
            </a:r>
            <a:r>
              <a:rPr b="0" lang="en-US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日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</a:t>
            </a:r>
            <a:r>
              <a:rPr b="1" lang="zh-CN" sz="4800" spc="-1" strike="noStrike">
                <a:solidFill>
                  <a:srgbClr val="333399"/>
                </a:solidFill>
                <a:latin typeface="华文新魏"/>
                <a:ea typeface="华文新魏"/>
              </a:rPr>
              <a:t>有关教学成果培育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    </a:t>
            </a:r>
            <a:r>
              <a:rPr b="1" lang="zh-CN" sz="4800" spc="-1" strike="noStrike">
                <a:solidFill>
                  <a:srgbClr val="333399"/>
                </a:solidFill>
                <a:latin typeface="华文新魏"/>
                <a:ea typeface="华文新魏"/>
              </a:rPr>
              <a:t>探 讨？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、充分依托各级各类项目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校级教学改革建设项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国际合作项目、校企合作项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学科建设项目、科研平台、校外基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-----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校级教学成果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教师的各类奖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培育内容建议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68360" y="2276280"/>
            <a:ext cx="80280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凝练项目成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名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梳理改革建设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适度整合相关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加大改革建设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举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纵向横向分析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比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丰富成果形式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成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凝练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特色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突出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创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、成果成效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培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95640" y="2276280"/>
            <a:ext cx="80280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论文教材专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学生创新成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毕业生的质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典型事例收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举办教改研讨（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媒体宣传报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------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92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校级奖的丰富提升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校级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校级的整合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省级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校级的整合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跨院校联合申报（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6+10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-----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实践多年或两轮以上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836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、高奖培育策略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二、申报项目的初步分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659640" y="5229360"/>
            <a:ext cx="190656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5072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1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ahoma"/>
              </a:rPr>
              <a:t>高层次应用型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土木工程人才培养</a:t>
            </a:r>
            <a:br>
              <a:rPr sz="3600"/>
            </a:b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     的探索与实践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省重点专业、优势专业、国际化专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国家特色专业、卓工计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国家级工程实践中心（浙江省建设投资集团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高层次人才？应用型人才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在校生培养成果成效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毕业生质量（优秀校友）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校企深度合作（机制、模式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卓工计划与工程教育认证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--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2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、设计类人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ahoma"/>
              </a:rPr>
              <a:t>立体化培养模式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的</a:t>
            </a:r>
            <a:br>
              <a:rPr sz="3600"/>
            </a:b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     探索与实践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47280" y="2060280"/>
            <a:ext cx="80550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省重点学科、重点专业、优势专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国家特色专业建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工业设计卓工计划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中德媒体与设计中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省级实验教学示范中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立体化”教学模式 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立体化”培养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国际合作、产学结合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校生、毕业生成果成效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--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、轻工类专业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校企合作教育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的</a:t>
            </a:r>
            <a:br>
              <a:rPr sz="3600"/>
            </a:b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     创新与实践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6000" y="2133360"/>
            <a:ext cx="8101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轻化工程省新兴特色专业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家国家级工程实践中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中国包装、浙江造纸、印刷包装协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建立“企业助学金”式“订单”式的校企合作教育方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五级实践项目、四个训练阶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校企合作机制、模式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培养方案、实践体系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校生成果、毕业生质量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----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6690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、基于知识、能力、素质协调发展   的 “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卓越现场电气工程师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”培养探索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引进德国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H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课程及企业课程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DIO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理念 、卓越工程师计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省特色专业、校外实践基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将接受国家工程认证专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（新标准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按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+1”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培养模式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推进改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近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年学生就业率及专业美誉度上升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卓越现场工程师？毕业生质量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校企实质性合作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------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5</a:t>
            </a:r>
            <a:r>
              <a:rPr b="0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、与工程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应用</a:t>
            </a:r>
            <a:r>
              <a:rPr b="0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平顺衔接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ahoma"/>
              </a:rPr>
              <a:t>工程制图</a:t>
            </a:r>
            <a:br>
              <a:rPr sz="3600"/>
            </a:br>
            <a:r>
              <a:rPr b="0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ahoma"/>
              </a:rPr>
              <a:t>教学体系改革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7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若干校级教改项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《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机械制图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》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教材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014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出版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平面（二维）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实体（三维）立体形象思维训练体系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静态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动态（动画）授课演示手段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课堂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网络平台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微课的辅助学习环境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学生学习效果、成果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其他高校同类课程效果比较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教学成果奖励条例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》</a:t>
            </a:r>
            <a:br>
              <a:rPr sz="40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国务院令第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151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号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,1985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教学成果是指反映教育教学规律，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</a:rPr>
              <a:t>具有独创性、新颖性、实用性，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对提高教学水平和教育质量、实现培养目标产生明显效果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2014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第七届教学成果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浙江省一等奖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98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（本科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45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浙江省二等奖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149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（本科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94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6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、应用型高校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ahoma"/>
              </a:rPr>
              <a:t>工程训练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教学改革</a:t>
            </a:r>
            <a:br>
              <a:rPr sz="3600"/>
            </a:b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    与实践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省级实验教学示范中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20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余项劳动部职业技能鉴定中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出版了实习教材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发表了多篇核心期刊论文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实践训练模式（体系）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学生的成果成效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后续专业学习和能力培养作用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--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5072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7</a:t>
            </a:r>
            <a:r>
              <a:rPr b="0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、基于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ahoma"/>
              </a:rPr>
              <a:t>“四步曲”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教学模式</a:t>
            </a:r>
            <a:r>
              <a:rPr b="0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下的</a:t>
            </a:r>
            <a:br>
              <a:rPr sz="3600"/>
            </a:br>
            <a:r>
              <a:rPr b="0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   实践教学活动研究与探索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7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软件工程等专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开放性实验教学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课外科技创新项目研究与实践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大学生学科竞赛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成果获取 （获奖、论文、专利等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四部曲的逻辑关系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学生的成果成效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专业人才培养质量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、汉语国际教育十年的探索与实践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罗马尼亚、德国建立孔子学院，建立了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20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多个海外实习基地，获全球“先进学院”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外国学历生全省高校第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位、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2014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1449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国际化、应用型特色的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汉语国际教育新模式？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比较成熟齐备的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汉语国际教育体系 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构建以提升职业能力为导向的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“国内强化培养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海外教学实习”模式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构建多层次、多元化的汉语国际教育人才培养体系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主线、对象、模式、体系、成果、成效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--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5072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9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、基于卓越的应用型人才培养的</a:t>
            </a:r>
            <a:br>
              <a:rPr sz="3600"/>
            </a:b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ahoma"/>
              </a:rPr>
              <a:t>大学数理课程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的教学改革与实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812808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大学物理（实验）课程群门类多（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30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多门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99"/>
                </a:solidFill>
                <a:uFillTx/>
                <a:latin typeface="Tahoma"/>
              </a:rPr>
              <a:t>若干省级教改项目和荣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99"/>
                </a:solidFill>
                <a:uFillTx/>
                <a:latin typeface="Tahoma"/>
              </a:rPr>
              <a:t>“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ahoma"/>
              </a:rPr>
              <a:t>八个结合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Tahoma"/>
              </a:rPr>
              <a:t>”为特征的“立体化”数理教学新模式；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解决大学数学、大学物理（实验）教学中的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“六大矛盾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”问题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三结合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”构建大学数理课程的教学内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四结合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”构建大学数理课程教学方法与评价手段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双向选择”的授课制度与“学科交叉”的课程教学团队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9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、基于卓越的应用型人才培养的</a:t>
            </a:r>
            <a:br>
              <a:rPr sz="3600"/>
            </a:b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ahoma"/>
              </a:rPr>
              <a:t>大学数理课程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的教学改革与实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2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统一思想、整体设计、分子项目实践、先试点后推广”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原则实施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子项目分“大学数学课程群、大学物理课程群、大学实验课程群”等 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数学类与物理类课程关联度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卓越工程师培养目标达成度的贡献？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培养学生具有运用工程所需数学、自然科学知识、能力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学生课程学习成效、相关研究与创新成果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-----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10</a:t>
            </a:r>
            <a:r>
              <a:rPr b="0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、基于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PRACTISE</a:t>
            </a:r>
            <a:r>
              <a:rPr b="0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理念下的外语</a:t>
            </a:r>
            <a:br>
              <a:rPr sz="3600"/>
            </a:br>
            <a:r>
              <a:rPr b="0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       教学研究与实践（简介）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76360" y="2017440"/>
            <a:ext cx="81280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语言实践（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ractise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）</a:t>
            </a: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”为核心理念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开展项目教学（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roject</a:t>
            </a: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）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实施研究式学习（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research</a:t>
            </a: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自主学习（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autonomous learning</a:t>
            </a: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合作学习（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operative learning</a:t>
            </a: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网络学习（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-learning</a:t>
            </a: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培养思考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能力</a:t>
            </a: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hinking</a:t>
            </a: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）、探询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能力</a:t>
            </a: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quiring</a:t>
            </a: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可持续发展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能力</a:t>
            </a: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ustainable</a:t>
            </a:r>
            <a:r>
              <a:rPr b="0" lang="zh-CN" sz="2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ahoma"/>
              </a:rPr>
              <a:t>用英语、德语服务其专业能力（</a:t>
            </a:r>
            <a:r>
              <a:rPr b="1" lang="en-US" sz="2000" spc="-1" strike="noStrike">
                <a:solidFill>
                  <a:srgbClr val="cc6600"/>
                </a:solidFill>
                <a:latin typeface="Tahoma"/>
              </a:rPr>
              <a:t>serving</a:t>
            </a:r>
            <a:r>
              <a:rPr b="1" lang="zh-CN" sz="2000" spc="-1" strike="noStrike">
                <a:solidFill>
                  <a:srgbClr val="cc6600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------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教学模式、学习模式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学生语言学习效果提升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同类高校语言教学改革比较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----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11</a:t>
            </a:r>
            <a:r>
              <a:rPr b="0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、团队导师制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―</a:t>
            </a:r>
            <a:r>
              <a:rPr b="0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融教学改革和科研</a:t>
            </a:r>
            <a:br>
              <a:rPr sz="3600"/>
            </a:br>
            <a:r>
              <a:rPr b="0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      创新于一体的学生培养模式创新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71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学业指导、科研辅导、人生引导、日常教导”的四方联动培养教育新模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从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2014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级学生开始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--------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教学成果至少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年或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轮以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12</a:t>
            </a:r>
            <a:r>
              <a:rPr b="0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、基于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《</a:t>
            </a:r>
            <a:r>
              <a:rPr b="0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欧洲语言共同参考框架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》</a:t>
            </a:r>
            <a:br>
              <a:rPr sz="3600"/>
            </a:b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     </a:t>
            </a:r>
            <a:r>
              <a:rPr b="0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的项目德语教学改革和实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205000"/>
            <a:ext cx="8243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中德联合培养本科生项目已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15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教师和学生以“行为为导向”教学体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有否相关项目支撑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有效教学体系或模式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反映学生德语水平的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对后续专业学习贡献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、教师获得成绩、荣誉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在同类德语教育培训中地位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-----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01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推荐的成果项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以行业需求为导向的轻工类专业人才培养的改革与实践</a:t>
            </a:r>
            <a:r>
              <a:rPr b="0" lang="zh-CN" sz="32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（林江等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基于项目教学的艺术设计创意人才培养探索与实践</a:t>
            </a:r>
            <a:r>
              <a:rPr b="0" lang="zh-CN" sz="32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（徐迅等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基于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CDIO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理念与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FH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经验的现场电气工程师知识能力素质（何致远等）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地方院校应用型人才文化素质教育体系的构建与实践（叶晗等）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几点建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35280" y="2104560"/>
            <a:ext cx="88516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ahoma"/>
              </a:rPr>
              <a:t>国际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中德合作教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个全英文授课国际化专业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硕士国际化专业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ahoma"/>
              </a:rPr>
              <a:t>应用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卓越工程师计划专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国家级工程实践中心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国家级校外实践基地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2014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国家级教学成果奖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79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浙江大学 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1+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本科院校 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2+1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浙江工大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宁波大学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浙江理工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杭州师大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浙江科技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所大学各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几点建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92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参阅同类已获教学成果奖材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适度整合、梳理教改建设内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研磨“模式、体系” 等逻辑结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凝练项目成果名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加大改革建设力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收集成果成效材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扩大项目成果影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--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6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82600" y="2017800"/>
          <a:ext cx="7772400" cy="2701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4" descr="图片1-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60480" y="3240"/>
            <a:ext cx="9213840" cy="684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西湖烟雨"/>
          <p:cNvPicPr/>
          <p:nvPr/>
        </p:nvPicPr>
        <p:blipFill>
          <a:blip r:embed="rId2"/>
          <a:stretch/>
        </p:blipFill>
        <p:spPr>
          <a:xfrm>
            <a:off x="-179280" y="0"/>
            <a:ext cx="9323280" cy="68580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72" name="Rectangle 3"/>
          <p:cNvSpPr/>
          <p:nvPr/>
        </p:nvSpPr>
        <p:spPr>
          <a:xfrm>
            <a:off x="826920" y="6066000"/>
            <a:ext cx="727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db3b"/>
                </a:solidFill>
                <a:latin typeface="Arial Black"/>
                <a:ea typeface="微软雅黑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230560" y="47628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 Black"/>
                <a:ea typeface="Arial Unicode MS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Arial Black"/>
                <a:ea typeface="Arial Unicode MS"/>
              </a:rPr>
              <a:t>中国梦    大学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2014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省级教学成果奖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092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本科院校一等奖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本科院校二等奖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94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浙江科技学院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2+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省级一等奖主要内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92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专业类建设改革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综合性教学改革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实验实践类改革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课程类改革建设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------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省级二等奖主要内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92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专业类建设改革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38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综合性教学改革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22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课程类改革建设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实验实践类改革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------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教学成果其他内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47640" y="184464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教育技术与教学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招生方式与学生选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素质教育、创业教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考核评价与管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教材建设与应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-----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" name="组合 3"/>
          <p:cNvGrpSpPr/>
          <p:nvPr/>
        </p:nvGrpSpPr>
        <p:grpSpPr>
          <a:xfrm>
            <a:off x="6659640" y="5877000"/>
            <a:ext cx="2157480" cy="649080"/>
            <a:chOff x="6659640" y="5877000"/>
            <a:chExt cx="2157480" cy="649080"/>
          </a:xfrm>
        </p:grpSpPr>
        <p:sp>
          <p:nvSpPr>
            <p:cNvPr id="114" name="矩形 4"/>
            <p:cNvSpPr/>
            <p:nvPr/>
          </p:nvSpPr>
          <p:spPr>
            <a:xfrm>
              <a:off x="6659640" y="5877000"/>
              <a:ext cx="216000" cy="649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矩形 5"/>
            <p:cNvSpPr/>
            <p:nvPr/>
          </p:nvSpPr>
          <p:spPr>
            <a:xfrm>
              <a:off x="6982560" y="5877000"/>
              <a:ext cx="216000" cy="6490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矩形 6"/>
            <p:cNvSpPr/>
            <p:nvPr/>
          </p:nvSpPr>
          <p:spPr>
            <a:xfrm>
              <a:off x="7305840" y="5877000"/>
              <a:ext cx="216000" cy="649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矩形 7"/>
            <p:cNvSpPr/>
            <p:nvPr/>
          </p:nvSpPr>
          <p:spPr>
            <a:xfrm>
              <a:off x="7631280" y="5877000"/>
              <a:ext cx="213840" cy="649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矩形 8"/>
            <p:cNvSpPr/>
            <p:nvPr/>
          </p:nvSpPr>
          <p:spPr>
            <a:xfrm>
              <a:off x="7954560" y="5877000"/>
              <a:ext cx="216000" cy="649080"/>
            </a:xfrm>
            <a:prstGeom prst="rect">
              <a:avLst/>
            </a:prstGeom>
            <a:solidFill>
              <a:srgbClr val="dcf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矩形 9"/>
            <p:cNvSpPr/>
            <p:nvPr/>
          </p:nvSpPr>
          <p:spPr>
            <a:xfrm>
              <a:off x="8277840" y="5877000"/>
              <a:ext cx="216000" cy="6490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矩形 10"/>
            <p:cNvSpPr/>
            <p:nvPr/>
          </p:nvSpPr>
          <p:spPr>
            <a:xfrm>
              <a:off x="8601120" y="5877000"/>
              <a:ext cx="216000" cy="6490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、教学成果要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11280" y="2133360"/>
            <a:ext cx="77724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先进的理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准确的问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清晰的主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严密的逻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丰富的内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有效的方法（措施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显著的成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ahoma"/>
              </a:rPr>
              <a:t>鲜明的特色（创新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、充分依托各级各类项目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5640" y="2204640"/>
            <a:ext cx="74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国家级“质量工程”项目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（特色专业、专业综合改革、实践基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卓工计划、工程中心、共享课程等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省级教学质量提升计划项目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（重点专业、优势专业、特色专业、精品课程、教学团队、教改项目等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3:12:30Z</dcterms:created>
  <dc:creator>MC SYSTEM</dc:creator>
  <dc:description/>
  <cp:keywords/>
  <dc:language>en-US</dc:language>
  <cp:lastModifiedBy>微软中国</cp:lastModifiedBy>
  <cp:lastPrinted>1900-01-04T05:08:28Z</cp:lastPrinted>
  <dcterms:modified xsi:type="dcterms:W3CDTF">2015-01-09T02:12:35Z</dcterms:modified>
  <cp:revision>186</cp:revision>
  <dc:subject/>
  <dc:title>读书人生与生涯规划</dc:title>
</cp:coreProperties>
</file>